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CE6-B565-4AC1-912A-C7299F6B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F5F-61A3-46FA-980F-976AF27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2FA-4643-4186-9957-1085DF9F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0D1-4169-49B0-B501-C137442B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146-9A38-479E-8D8B-63704C2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777-8083-4CE2-AF40-015C2AFA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0E-DBAE-4ED2-A39A-7A2485E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1E4-5446-401D-9B1B-743ED01C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A4C-5F09-4F25-A9F1-B78A9F21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446-1F8B-49AF-A270-7C033BC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B94-B9CB-4BA2-AAA9-6360E94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D4C-9850-499E-9E12-DFFCC65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1E0-159E-4F92-915B-968D20FA6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4-09T17:14:54Z</dcterms:modified>
  <cp:revision>6</cp:revision>
  <dc:subject/>
  <dc:title>Polly the Parrot</dc:title>
</cp:coreProperties>
</file>